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C23-7B3C-468F-BD6A-6A0C2C81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45D-6B09-438B-B346-646AAF96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A4C64-AA22-4910-A73F-5EA49498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93FE9-F308-4BEF-A8F7-77CA2802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141C4-EE17-4540-A0F4-16AAB37E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178D0-DD5E-4A35-BCF0-8495B3C3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56988-B2B5-46A6-9E91-8F5365B3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65819-1001-418D-80AD-B33133A6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B2170-BEE7-4D8D-BC56-98E80EAC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24209-4CAF-4FBD-84CB-C0AF33FA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BF1B1-2FFE-4660-BDA4-5FACAFBA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7E3CC-883E-48D3-ACEC-092314EF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3FD-6396-47CC-9F7E-C4C3CFF7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EF137-DDE9-4724-9D7B-558D2D94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9E0F2-E6CC-471E-B09B-C5D46276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D7643-71D0-4F47-8C9E-16DB706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5985A-65BC-4221-8650-6C0B48E3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373FE-7F60-4CE5-BE22-789C7581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B630F-4FA9-444A-985F-1586DA6B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FAF0D-68B7-42C7-9768-92B8BD3F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FD7E1-1667-4BAB-A367-63E1F048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CE07A-6787-47A5-8A99-CA34B877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BDD6E-929C-4390-AD19-6374844E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F10-C453-46A7-B4A6-082004F2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89E0E-ABD8-4834-9247-E6C78149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92A06-D479-4DCD-860B-4DB23C2B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86A13-B23A-48CB-9DD8-6ADF4011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BA529-BF17-4EC3-892B-ED2662F9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1FE0A-428F-47CA-B82F-DA1F8977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E955A-70F5-4128-89FB-817DFAFF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E71E2-9977-472A-ACAD-5BD10D9C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270AA-4464-4EEC-A644-8702330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42048-716E-4E44-83D9-398C84C0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13573-78EE-4E29-9DE0-580EE542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5810-36B3-4234-9F92-CB4F70D1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A6125-F351-431A-B40E-BC48AB31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96067-DDD4-4BAD-B47C-AEF1DCD1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9EC75-1BAE-42DB-8B33-DFC419AE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2E10C-26DF-4F7B-97CF-EA8C65B1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EE0DB-9CAC-47C6-82E4-41DE925E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5435B-99AF-48FB-B8C9-466D914E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79725-480D-4D1B-900A-6E790BE6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E3D1D-C501-4256-9709-8802AEAB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4FB2A-8D51-45E5-9F03-207AF6A5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D54FF-3CD8-4FE1-9622-743842D8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DF89-8173-4CFF-A85B-E97DBC77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02B2B-8069-498D-B605-4D9C7CA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46B09-EF06-45D2-9C04-28B756D7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5A7BB-853B-4095-8939-237320D4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53960-98D3-4129-81C0-61A6FAD7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D095F-4738-4554-AE21-7B3FFA8A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4E4F0-9805-4B3A-81AF-255201B3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4D423-47E9-4EF8-8B87-685B3973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C8B5D-9EC1-47C6-B34A-F9DD28EF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71EBF-2104-4014-A0D8-9A94D046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BE24D-504E-4826-B359-6EFDFB53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2879-A2C2-4DA7-8C89-696929B4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3C60A-EB90-4580-9564-6DBEBE38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777F0-C01A-4E10-A483-8E6713C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EAC61-F493-4F6C-8EDF-442527F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CD197-1376-4F40-862A-EE25BC61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F67F2-5356-43E3-BB93-D343E639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C6307-6F1B-4554-991D-8CE4E733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3B890-7088-4654-B7B7-75D1B557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B7151-9E1D-47F3-9B07-82F6D524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F94A1-0166-451C-9932-16D2CB03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2A2A9-79CB-4777-9B30-B03E1A5C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E573-36A8-4ABC-A52F-61FAFBF6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0FC8E-B6A1-403A-9E54-0F8509E6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AD13B-0121-4875-A22C-8880F73E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B9AAD-69F7-4A5C-886E-1303DC19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3EBFF-16B9-4E37-B9C2-55EF7B22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D400A-E251-4767-B097-797468B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E6457-3F02-46CA-BB7A-BC0B39D3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4F7F2-2250-451E-9B33-EAE3204A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5C961-E2F1-43FA-B898-E58FBAB3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11BE9-D52C-4F2A-99DF-0BB6D265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BAA4A-FF64-4993-A164-FD0E839A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2153-E015-48F6-B0A4-8470CADF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18591-825C-40F0-9CE9-129432D9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C6E1A-1B8A-4B99-A2F3-21AF9F3B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AA177-9254-4F1D-92D5-E4F2293C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85AAF-7713-4098-BC8E-84A60A4A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0C46A4-759D-4870-B1CC-F98F4686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27B22-BDB4-4B5D-A26F-0CF0E76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88773-CECD-486E-9EAF-7D0E3AAD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074A5-9183-4EB2-9245-5FEB330D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FD6E9-69D3-43A7-9A98-7A7BEC1F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825D0-78FB-4F76-869C-89B6870C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0358-F1D3-45D7-9F84-565BEAD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0BDB2-D299-4701-AF0D-EB49021F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FC3D8-B3C4-4930-A905-6C534E3A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B350A-55DA-425C-8E16-FF71F0CB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0CDA56-BAA9-4717-9753-4818DB08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73F18-A460-4ECE-A92F-4A1A915A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B16CA-3904-4912-8AA5-4F64D2F7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5625A-3487-4805-BC7D-015E5BB3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8BAF01-13E9-427D-B33E-06F9D76A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65CDB9-5FAB-4FDA-82C6-01B356B9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537B94-80FD-46F6-B9C3-AB247D3E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2BB3-0E04-4474-8849-FE02BF04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0BC80-0E48-45FC-B768-80D37574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795F5-D250-4B82-9787-470567CA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9870B-6FE7-4A7B-8211-976E8CA1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2327C-6B0D-45AD-9261-3A226B66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967CC1-2EC7-4F54-A151-D73DF778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071CD-C1E5-4591-846A-D58E602E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7A3C7-AF19-4501-85AD-422398BA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DCD3C-3CCC-4F66-A4B5-B443341F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4C78C-6692-4B40-B195-73C6911B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0DAC9-385E-41DC-9B3C-02CC2B29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32D-D834-4862-A019-03B7D10B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66AF-EBD4-4E9A-A102-EFE22D18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89FD2E-4D17-478D-B1C8-30FAEE26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11CA1-E62F-48FF-BB44-3A032FD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B95C6-021B-4BD6-8A40-E73DAF82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211BAE-CE9F-421E-9A84-028B57F0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D0157-DD9D-4F0C-835F-DE924C63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D76D84-3A28-41B5-A0CC-AB8133EB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13549-0D99-4C71-946E-84C9068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084FD-719B-4FA6-B998-DC2FB503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C0147B-02C0-413B-A793-4B6E8EE4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8B49B-5561-4CC9-B8A3-CFD8F44F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9A09-CBBE-4FA3-929F-1217C74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160F1F-C3D5-40F6-BF6B-832C54FF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700FF-03F7-49A6-BFA1-4EC33F32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510E3E-D17F-4C6A-8512-D7343520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61E8B8-82E7-48D3-AD7D-C862687A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C6A14-352A-4512-B22E-DCDBFB8F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AC322-6A1A-4EC4-BD24-1E4FE83D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FA954-912D-4202-BCBA-DE0A713A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BE1B5B-F69E-44AF-8759-007893FE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869C52-02B1-438C-BA63-2D97DA4D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E8D584-A488-47B1-9A0B-4EEA11F9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D911-EB5B-47BC-B755-26052B3E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E27153-3C7E-4241-9D19-CCE8E0C8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0E28D-0019-46DA-995B-7E8320BD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BD591-7D70-4A5D-9637-68FA9CB2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4BFEF-4024-4FDE-9664-2F4E37F5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445856-B67F-482D-A475-DA8886AE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857AA6-1E17-4EDD-B885-87E82F0D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DD1A42-3CF4-4B37-BB56-A4B9E4A0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44BAD-E1F8-4FE3-82C0-D43968ED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1E9CF-95A2-44CF-B1E6-7EA3D7CD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B3D8CB-10C4-4664-8D8F-5A078474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48CD-3748-4207-92CC-822050F4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CCE8F3-0E1A-4DC7-ACE4-FCDE7CA1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0CDB83-2CD4-46EE-AEDD-0C03E2E9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FC5EF-41E5-4317-A58B-685339D5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D9727E-789F-4D98-8780-9F1D6426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0A8970-8F0F-45A4-8D87-DE6AE43B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57380-CDEE-4F9D-993F-E0137DFE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2DA9D-B11F-4F1B-BCB3-2E59FA9D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DA4B45-B8E0-4B56-A706-36447EC7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BED18-0918-4F5A-98F8-0C7758D6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80E29-B0A9-4A34-A801-431C85FD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1063-1D61-419E-B409-08921796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1F41F-65BB-464F-BA42-A05D305D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E396C1-76B3-4353-8197-1D127B51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C4F6B8-A884-4BB2-85F5-9A95453F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1872E9-2127-45C2-B34D-E65B5B7A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773154-B39C-48C4-A372-B987C0D2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7DCB3-8F6D-4DF3-8300-C78B872B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74F2EF-3B7A-41CE-957A-D79A9316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FA2BB9-2026-4DA0-A9D3-F1D0D37D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31194B-7A41-4F9A-9AD6-77814BDB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2C7DCD-FDC0-4BA3-8ED9-396EFF55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859E8-924A-40E9-8A5B-BD8A2DB1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387184-3EE5-4309-9911-88FC4568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45B1DF-5BF5-4B2F-B3B0-89059664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9FF820-B0A8-445F-B3F8-FAEDFD0B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A745-0C83-43EE-B084-188283ED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1275-215A-4C41-9A88-240531C4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D280-F969-4BD8-8972-F01DF81A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0E4A-F9DF-4EF4-899C-A3DA86A7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CB4-34DF-4863-B862-A2A3FFFB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DEC2-C34C-4E49-AC6D-9312D6F2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E108-9EE9-4FF3-AFCE-8478563C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6868C-635B-4123-93B5-1CF574C1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3B95-1875-4AE5-AD07-BF36BE4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D4FB-8007-4580-A13B-F3545FE5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AEAB-12E0-4530-8532-82B0D4FF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A6E2-2D31-4DFB-BA40-CA8A9455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DFD3E-A694-448F-8929-D4FE70F8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1D83C-F5A1-4061-BE2F-A8100F41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9C0A-C66A-4F3D-8D63-EBC84066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FB8-7388-4804-9E4F-261A7FA0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BAA8B-84FB-4B38-BAC3-1222BF3C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256E0-4220-42F0-9D38-1AEB1A4A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E9A7-DEF3-4D3E-A493-2890BCE1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5F37-7A99-4DE9-B001-B63EF66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77C66-3796-431D-A631-3D934412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148E-43D9-4AC4-B21F-4C67CB83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C149-D7A3-4320-B54C-E529814D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E6E2-9918-44A7-BE06-9E9AC9B5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06FBB-4407-435F-91B1-71372129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28FCC-13FE-4FA4-8255-458B4906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B02-F10C-4889-8D2D-AC15CC25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8E8AF-7C31-4E4C-B235-506E4257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D96EF-EB81-4913-90D9-42EAF5D6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2D17B-79F4-467C-B045-97CE729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427E1-0F87-42DF-A12B-064B6D5E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35615-E1E9-4BFC-B1D8-9DFF34BD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4CAE-280C-4C9F-95B5-CD908076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EC2EC-CEE3-4F3C-B185-3BC11745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AF7D4-2B74-4E2A-BA0C-E916E92D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000BE-61F3-457E-BD76-C41DAD1E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71D12-9B45-4A72-8B5D-BF934379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19D-0105-47E9-8E9B-0C8B51F7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6ECF5-F090-4D9E-B309-295B11B9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80D7A-D9D0-45F5-9282-83CB5334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4EB1A-1FF0-431A-BDF2-C3B0AA66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9F9D-A0DE-4324-ABD8-223CDF6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3D25B-B3B3-40C6-B808-0630E15E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535E6-BB27-4A39-879F-5DE0C2CB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4E94-0389-4A8F-B323-EC7F3639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97533-48FE-4D38-8475-DD16F70C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5041-0852-431A-9946-73ABF172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03137-0E6D-4D0A-A164-CCB8CAD5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AA4-ABA7-40F2-BE64-FD94CEE0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310F8-8624-446A-B1A7-9330D047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B59CE-D2D6-432B-A009-156DBD57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5C935-B5A3-493E-AB7D-173DE74D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C05C3-2623-4D32-A895-D8DF7CC4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1E01-FC99-4474-B55D-733009E0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95752-E2AC-4786-9F7A-ADB2F0AC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2DE3F-8F20-4C6B-9782-686D131E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371C5-9C47-4F0B-ACC2-2E385988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56662-7CE6-4DD1-88C4-91A646AB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46EC9-0BF9-4BA6-BA2B-6E73ED8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D89-ECA5-43E8-8A41-C6BCB8DA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AC24C-71BC-468F-A6AA-C0738C44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98715-1D5A-4716-AED3-DFF41F5F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C88BF-24E6-4577-BF3C-9D324524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168B1-8C5C-42E1-B2F9-B4E29892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2E66F-CDF9-4FF9-A3BB-EC5382C1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83B24-4903-4599-8313-96D4060E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FFCCB-3ED6-4951-94EA-C4DDC7B1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A8D45-474E-42DC-B8EB-D23E8000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1A821-C5B7-41FB-ADB3-C603352C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E4946-CE33-4E58-A2DC-EA32AB9A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92C-5FBD-4B71-9FBD-2CC28EC7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5E678-10A0-488F-BC3B-7D44FB4A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5AE05-5097-4FA7-8581-9A48F96E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DC289-E015-4BEB-89E9-6CF09825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B1D2B-69E8-4FE5-B9EE-44252745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72915-BDF7-4961-9739-990EC36B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D44F4-716C-49D7-B676-360784E8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1B069-71E2-466B-8CF1-3CC28095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CA80B-7804-4BCE-8BAE-905F336D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91E0D-34FD-420A-B24A-609E7301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47B91-00BE-4279-A790-246463DA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EF74-BE4B-4AD7-BEBB-FACB7C03BE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23E8-84B6-47CA-A33F-04AD8596EE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0B55-89A9-427E-8D56-08B353301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4778-63E8-48DD-8EDC-50111226B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D50D-8D4E-483F-8AC3-F8BCC37C7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72F3-70E1-4139-BE32-D6A1C22E9E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1C49-7F76-48BD-8E37-255A0A367A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156B-3A9E-4F9B-9040-154B747471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07BB-1985-425D-9EE2-3B3F85C565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1FAB-8D04-409F-9CE1-EEBD22869C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AC3F-8669-45CD-8FC6-BC48429D40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186E-1F5F-487F-8AF2-55CFAB4577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D7A0-28E9-4933-8D8A-717ACAC311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3781-49D0-415D-9726-B40BB2F905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8AD1-18C9-4F88-ABB0-138CF5DECD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2843-38A3-4C0B-945B-4B6695E096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3CDC-C1F0-4A59-8B47-4A1C337042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7BDC-B830-458D-8922-BC49969300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17AF-AC55-4BE3-AFB0-EBAED54DCE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AB0C-0EFA-4CC7-8C97-5D670C1D82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AEDF-01AC-435D-810C-2B451EAC5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C24E-9C77-4A93-AFAC-DF7FF16047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3C6D-F8A1-4665-A5F7-C1595B9FBE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F721-1042-4242-A5AA-6507D29A1C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DD0A-A46D-48DB-8C97-EEEC9CBF5D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D18-E3F5-4874-912F-F839AB5B13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A693-CB17-4F0E-A812-7D944860B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49A5-EA94-49FD-A32D-8228E956AC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F7CB-E5DE-47EB-B024-656498FE3A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8D19-3E4A-4C45-B76B-FDD4FDFBFE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F540-1169-44EA-B29A-8E094836F6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62B6-342F-494A-B84A-DF9780C65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85DB-3B5D-45D3-B19C-3C2AE02123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C8CF-9A8F-41D0-A1FF-A8531426C3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985E-0DB5-4238-866A-8BF6A8EC83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A6F0-883D-4C66-919D-7F33E20593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FB51-7F04-4566-99ED-BE31023901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75B7-0934-4DBE-AC91-6F95A0035F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D30B-B9E7-4056-BE35-D1FA071938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1FD9-7AD4-4E8C-B10C-F97D69358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4610160" cy="11905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62388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69633" descr=""/>
          <p:cNvPicPr/>
          <p:nvPr/>
        </p:nvPicPr>
        <p:blipFill>
          <a:blip r:embed="rId1"/>
          <a:stretch/>
        </p:blipFill>
        <p:spPr>
          <a:xfrm>
            <a:off x="328680" y="625320"/>
            <a:ext cx="8486640" cy="59724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456000" cy="8636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3456000" cy="8636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826920" y="5589720"/>
            <a:ext cx="309744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900000" y="6151680"/>
            <a:ext cx="691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04920" y="785880"/>
            <a:ext cx="8534160" cy="566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851280" y="18730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15636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908000" y="46674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596360" y="4437000"/>
            <a:ext cx="863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14520" y="1504800"/>
            <a:ext cx="7914960" cy="3848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484360" y="2637000"/>
            <a:ext cx="503280" cy="9363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6948360" y="2637000"/>
            <a:ext cx="503280" cy="9363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6084720" y="4437000"/>
            <a:ext cx="719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1038240" y="1957320"/>
            <a:ext cx="7067520" cy="29433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2944800" y="311292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6861240" y="30988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2916360" y="42069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6832440" y="419256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304920" y="1009800"/>
            <a:ext cx="8534160" cy="4838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042920" y="2997360"/>
            <a:ext cx="2592360" cy="936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2592360" cy="9367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4140360" y="2997360"/>
            <a:ext cx="4752720" cy="9363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4211640" y="4292640"/>
            <a:ext cx="324000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4140360" y="5157720"/>
            <a:ext cx="32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1119240" y="1690560"/>
            <a:ext cx="6905520" cy="34768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332000" y="2924280"/>
            <a:ext cx="1871640" cy="936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258920" y="4076640"/>
            <a:ext cx="1871640" cy="936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4427640" y="2924280"/>
            <a:ext cx="3600360" cy="936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4427640" y="4076640"/>
            <a:ext cx="3600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262080" y="500040"/>
            <a:ext cx="8619840" cy="5857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116000" y="3357720"/>
            <a:ext cx="3095640" cy="934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3095640" cy="934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826920" y="5373720"/>
            <a:ext cx="3095640" cy="503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684360" y="5891040"/>
            <a:ext cx="5182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4276" descr=""/>
          <p:cNvPicPr/>
          <p:nvPr/>
        </p:nvPicPr>
        <p:blipFill>
          <a:blip r:embed="rId1"/>
          <a:stretch/>
        </p:blipFill>
        <p:spPr>
          <a:xfrm>
            <a:off x="324000" y="728640"/>
            <a:ext cx="8496000" cy="54007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1187280" y="3141720"/>
            <a:ext cx="3097440" cy="8636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3097080" cy="8636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684360" y="5084640"/>
            <a:ext cx="3097080" cy="5050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611280" y="5661000"/>
            <a:ext cx="66974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2231" descr=""/>
          <p:cNvPicPr/>
          <p:nvPr/>
        </p:nvPicPr>
        <p:blipFill>
          <a:blip r:embed="rId1"/>
          <a:stretch/>
        </p:blipFill>
        <p:spPr>
          <a:xfrm>
            <a:off x="318960" y="971640"/>
            <a:ext cx="8506080" cy="4914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1258920" y="2852640"/>
            <a:ext cx="3384360" cy="10080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3384360" cy="863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971640" y="486900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900000" y="5445000"/>
            <a:ext cx="561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9:1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